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6FBA-0BE6-4E9B-8205-5424404CA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8103-FC49-427D-B9E7-DD5B4C441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E108-423F-4873-B4F6-8E3DD96D0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1564-CC67-453D-9D32-5101231BB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1E20-B3A1-44B8-9E5A-8287685FD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AEFB-3F32-4154-B05E-F55537330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E6B9-F409-4BF9-982B-DAF18518E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9848-500F-4F19-8A32-B09F0117F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A885-E4A5-4290-938F-0AB3C6A4F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A084-A938-4FEF-A874-5FB23FBCA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A498-073E-49AD-A75E-E58C1D18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5681-A23B-4C20-B643-F9CC63E82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34C8C-E1AE-489F-85F0-C39014BD516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nhaltsplatzhalter 4" descr=""/>
          <p:cNvPicPr/>
          <p:nvPr/>
        </p:nvPicPr>
        <p:blipFill>
          <a:blip r:embed="rId1"/>
          <a:stretch/>
        </p:blipFill>
        <p:spPr>
          <a:xfrm>
            <a:off x="84240" y="404640"/>
            <a:ext cx="8975520" cy="629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3:07Z</dcterms:created>
  <dc:creator>Martin Weigert</dc:creator>
  <dc:description/>
  <dc:language>en-US</dc:language>
  <cp:lastModifiedBy>m w</cp:lastModifiedBy>
  <dcterms:modified xsi:type="dcterms:W3CDTF">2018-03-31T05:45:44Z</dcterms:modified>
  <cp:revision>17</cp:revision>
  <dc:subject/>
  <dc:title>Folie 1</dc:title>
</cp:coreProperties>
</file>